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F81D811-61F8-48C0-9EC2-AC2051D890B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11CF8A8B-A891-4184-83B1-59D7D71A8C2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986B84D5-1BEC-4A9B-B3CD-6E423F2363C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6F77873F-E556-4FBA-B92C-9B59E853678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2A2B6149-6808-4FEF-AC1F-52C1BE0CF94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B99727-C674-42FE-8D17-A6980EC5DF2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96D2658D-C7F8-42D8-97C9-9FA4B0617CF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78170F9A-2F3B-4C39-B3AE-47244F31C16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C82D75DD-80F1-45FB-AD24-FD663C688AE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44E56A0-98DF-4878-B403-6EB2227D0B9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2BAE6B1-B20E-4D19-8008-A5AB9C40216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9E8D120-8559-4B72-A69F-A025DA2804E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668B0B-6E23-470E-9B9A-5E707DC1C57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FB952B2-1EE0-49D3-A6B7-B8A554DFE359}"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2B03649-7EA4-4DD0-BF54-3792147C9F3F}"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068A723-94EB-4F6A-90A1-5C0845C10B12}"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8F24A96-1481-4CEE-910A-727E50357CEA}"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18EC93-8650-4E5E-AB4C-2F64A251C357}"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D82563-C635-4344-A172-66DA990CFD35}"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9CB6902-D1B8-4752-921D-C6AA55D3F6BB}"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AED30B-0917-47A7-B82E-6058ABB6ECE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71E817-0B2E-4BBD-8EAD-0F394B2E83A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8EF97B3-3554-447C-93FF-114ECACBF91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17FC5D-AE10-4C83-BD72-D493CCF9FAF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F9122B1-0C5A-488E-B458-BF294E944B1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504FA970-BC3B-470D-8393-515E90335A3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C339609-832C-4A08-B591-36AEF8A27FC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66839F-E84A-4E3A-833E-00B8E405C7E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5A93958-F533-4994-8FA5-33DBF05D4AC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3423572-42E6-424D-819A-96227F3A709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1DF834-6DF0-41D3-8AEC-5EBDE78502F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99D8F9-E46F-4BAD-A262-B9DAFC89DFD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C60EAB-4A4A-4083-9D22-FF42CA98465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DF27F6B-472D-43CD-A6AC-B7DAB06C2EF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F5B8019-B8DE-436C-8603-FDAA96E0A8D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FAC10AE-0064-4853-B510-123F3C7F9E8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65D7740-6C85-4A6D-9A26-5A1F6F7942E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8E6D72-747E-4DB7-9266-A8623D5D32A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9A0EA60-62BC-4C65-87E5-DDE62DCEF38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A185918-1189-4448-B739-5E54A62D7DF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9EA2F8-27D3-44A2-89DD-BC424E49524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DDF2057-8ED7-4A6D-96F2-25DC9BD6F34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C9D595-BA8B-4616-81AA-91B37A1EEEF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775EC81-2BE0-42D1-81F2-D221D23913B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687E22-8451-4346-A1F7-2972A0F5ACC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28C5AE3-9540-461D-8724-568C9436C7B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E21763-5B3C-4F91-A1BB-114CD6C83250}"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6FADD0A-55CE-43DC-A37E-8749E24DC20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B9393E8-2C30-4937-A487-7C73327BC72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A40BBB-3DF9-453E-9944-7FE22BFBDC4F}"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EB4BF677-C654-433E-A027-55A73820BEF8}"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F3E390-F9F2-4A6D-99B6-7893B3B2930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B59D36-5BE4-4B9F-A5EC-56222AD7D98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65FD56-1582-4713-AA72-C2389950683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F9C833-B387-4DC8-A52C-D9CD05833969}"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603FFC6-04FD-44DF-8E99-433C002FC99C}"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30F6E4-6338-4051-9649-07C6BB9EADE4}"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87ADB5-C5BE-47ED-969C-5BB4E225CFB0}"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AD2CF2F-D550-42BA-9DBD-0A1221644897}"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8993F0-4459-4FEC-8962-C63CBBA941EF}"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4C7177EA-FEE3-4ABE-BD83-742AE6CDEC40}"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5C29E54-AD03-4E2D-98F4-F503C1D13745}"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310C0EA-B1FB-4E26-BF1B-16A2F80A7980}"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F452DE-240E-47F2-935F-BF1A818C273E}"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430F8F-3752-4EC8-8D44-5807E985426B}"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4A34000-39DE-4A28-9A70-720D8F977126}"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FD60F6-411C-4DFF-91FD-41A7F4270EC1}"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87BB78-44D9-46CE-84EF-EF6C7B75A0F6}"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E09512-DB12-43D4-B0C7-B5402B0EFC86}"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14BE0A-425E-40E8-B7FE-052F51093B8B}"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E5F416-6733-4AC8-AF8E-19611665C97D}"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5E87C1A5-3A83-48A8-9E1B-56858E6C6D76}"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6F19967-2904-4E75-8510-A95E13C787E2}"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071BC6-F29E-41F4-A4EB-F07FCA7F8C47}"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AC7030F-B819-4054-B5E8-A80AF6C869ED}"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01218E6-DD48-4851-835E-1A705577821C}"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2596918-A207-42F7-950E-3BDFF5DF4006}"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3DB54C-8D24-4666-A5EF-01DFAE161523}"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E22E10-9952-4E9E-B16A-32CAC72BA607}"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A45277E-68B9-4B33-A352-FEB611F112B5}"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754DBE6-5C11-4804-8954-8ADC810CFCFD}"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E76F35-7EEB-4983-855D-84043D3B97E4}"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63AA0C-39E0-44A8-9568-8AFFF3EEEDDF}"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6D132B8-2DF8-4D68-ADF3-E9FF8E1047B4}"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F7CA70-E89F-4A24-B295-11935B1ECFB3}"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BBD500-7D0E-4BA1-82C9-EA450BD22F34}"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B22D2EE-63CE-4F3A-AC6F-ECECB38202A4}"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C114BC6-30F0-422C-86F8-DAD9A878B310}"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2E4F6FA-11FB-414E-9010-18B9D8870AF0}"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7E8A2B-10B2-44C2-A4BE-75D3D6984E6D}"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AD408B7-C978-4560-B667-3547389E04AC}"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2A8B37-D70B-4801-8D9A-A21A96C789E3}"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31078F-9539-46F7-8FC6-44005C53904B}"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0CD1DE-8BD7-4EA8-9E6B-01B0FC2310C2}"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441FDD-9212-4026-A8C5-B86ABCC2033A}"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10921C-ACA0-4E77-8646-A0B7CC3535EB}"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B6E2B9-4875-4482-A5E3-AB4FCFD8959E}"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43CAED7-B084-42E0-AFBB-949DB3ECDEC9}"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5E6D90-98A8-45F7-ABC6-25D213BEC081}"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797977-DE11-43FD-BC07-5C54B225E837}"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0A4F131-E5D3-43E9-839B-8F13D4F5D061}"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791D7E-15B8-4EFB-98E8-A5B781724AD8}"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B485CFA-C50F-422B-BDC6-0181C5C4DAB5}"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B0ABA0-20E4-414B-A906-6278A336F015}"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5650DCE-D25D-4BAD-AFAD-404B797ABAEF}"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92FDD7-0152-44E8-B92C-28725A916CB1}"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73D453-5974-4C6A-88C2-9F684EA9E87F}"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5508100-DD83-4467-95E1-05C4D6AC1C6C}"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263D38-458E-4159-A8B2-D587C9D2924E}"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15C0B4C-6AFF-496F-B767-17F784C29623}"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CF1567-E548-4341-A70D-34E4B23AB30C}"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45B44A2-BF5B-4536-877C-45E8D15B24FA}"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0F63F25-04CD-495E-911E-0C051681E468}"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9B80652-9F54-4C3B-BF07-834DF5DB92A2}"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90B08EC-5C8C-4D7C-95DD-60C71DDA5BB6}"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94E8C5-5488-4AE8-81C1-F4044E92D018}"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72BD4C-7A70-44B5-9DCA-DDF31921712E}"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